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F46D2-3F2F-4584-BC04-F3C1E8C19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9135-AEB6-46C1-B124-8395A780B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50A76-AF90-49CA-A674-7E82A1D12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6F546-423F-47AB-9599-D8E04069C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7A1D-FDF9-4A77-A549-2D8EFD1D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AA66-0ABC-468A-8ABC-47B7A848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53B53-4E74-47A1-BB4C-1E34E719F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BBD45-C811-43AB-81C7-7BBD4B65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F4478-CB0E-4D8A-8385-ADCE1787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777F-D62E-457A-8FD7-5A6B25F5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B8A9-5B46-46F9-A2DE-D418C47AB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D8A2-6F47-4A83-81D8-49CBCC05B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C128-E04F-42D3-BA0C-F97E913FE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114440"/>
            <a:ext cx="77724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ese are slides that were part of a CISSP prep course that I partly developed and taught while I was with Ernst and Young. </a:t>
            </a:r>
            <a:br>
              <a:rPr sz="2200"/>
            </a:br>
            <a:br>
              <a:rPr sz="2200"/>
            </a:br>
            <a:r>
              <a:rPr b="0" lang="en-US" sz="2200" spc="-1" strike="noStrike">
                <a:solidFill>
                  <a:srgbClr val="000000"/>
                </a:solidFill>
                <a:latin typeface="Arial"/>
              </a:rPr>
              <a:t>While these slides are dated – August 1999 -  the core information is still relevant. </a:t>
            </a:r>
            <a:br>
              <a:rPr sz="2200"/>
            </a:br>
            <a:br>
              <a:rPr sz="2200"/>
            </a:br>
            <a:r>
              <a:rPr b="0" lang="en-US" sz="2200" spc="-1" strike="noStrike">
                <a:solidFill>
                  <a:srgbClr val="000000"/>
                </a:solidFill>
                <a:latin typeface="Arial"/>
              </a:rPr>
              <a:t>Contact me w/ any questions or comments – </a:t>
            </a:r>
            <a:br>
              <a:rPr sz="2200"/>
            </a:br>
            <a:r>
              <a:rPr b="0" lang="en-US" sz="2200" spc="-1" strike="noStrike">
                <a:solidFill>
                  <a:srgbClr val="000000"/>
                </a:solidFill>
                <a:latin typeface="Arial"/>
              </a:rPr>
              <a:t>Ben Rothke, CISSP  brothke@hotmail.com </a:t>
            </a:r>
            <a:br>
              <a:rPr sz="2200"/>
            </a:br>
            <a:endParaRPr b="0" lang="en-US" sz="2200" spc="-1" strike="noStrike">
              <a:solidFill>
                <a:srgbClr val="000000"/>
              </a:solidFill>
              <a:latin typeface="Times New Roman"/>
            </a:endParaRPr>
          </a:p>
        </p:txBody>
      </p:sp>
      <p:sp>
        <p:nvSpPr>
          <p:cNvPr id="4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ity Requirem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iphertext and plaintext are known, it should be computationally infeasible to determine the enciphering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hould be computationally infeasible to find valid ciphertext (Even if you encrypt plaintext so that it can be decrypted once, it should require the same amount of work to do it aga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vs. Private Key Encryp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key encryption uses the same key for both encryption and decryption (faster) (D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key encryption known as </a:t>
            </a:r>
            <a:r>
              <a:rPr b="1" lang="en-US" sz="2800" spc="-1" strike="noStrike">
                <a:solidFill>
                  <a:srgbClr val="000000"/>
                </a:solidFill>
                <a:latin typeface="Times New Roman"/>
              </a:rPr>
              <a:t>symmetric</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key encryption uses two different keys, one to decrypt and one to encrypt (RSA)</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one key can be “public”, because the other key is still necessary for decryp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complex, key management is an issu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key encryption known as </a:t>
            </a:r>
            <a:r>
              <a:rPr b="1" lang="en-US" sz="2800" spc="-1" strike="noStrike">
                <a:solidFill>
                  <a:srgbClr val="000000"/>
                </a:solidFill>
                <a:latin typeface="Times New Roman"/>
              </a:rPr>
              <a:t>asymmetr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ipherment Mod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Mode ciphers - Message broken into blocks, each block encrypted separate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s of identical plaintext have identical ciphertex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y and substitution attacks easier (insertion or deletion of block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chaining - parts of the previous block are inserted into the current blo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replay and substitution attacks much hard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 is a block cip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ipherment Mod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Ciphers - Message broken into characters or bits and enciphered with a “key stre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stream - should be random and generated independently of the message stre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Encryption Standard (</a:t>
            </a:r>
            <a:r>
              <a:rPr b="0" lang="en-US" sz="4400" spc="-1" strike="noStrike">
                <a:solidFill>
                  <a:srgbClr val="000000"/>
                </a:solidFill>
                <a:latin typeface="Times New Roman"/>
              </a:rPr>
              <a:t>DE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IBM in 1972</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approved for national security applications</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bit plain &amp; cipher text block size</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6-bit true key plus 8 parity bits</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chip (hardware) implementation</a:t>
            </a:r>
            <a:endParaRPr b="0" lang="en-US" sz="2800" spc="-1" strike="noStrike">
              <a:solidFill>
                <a:srgbClr val="000000"/>
              </a:solidFill>
              <a:latin typeface="Times New Roman"/>
            </a:endParaRPr>
          </a:p>
          <a:p>
            <a:pPr lvl="1" marL="668520" indent="-2570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lementations now software</a:t>
            </a:r>
            <a:endParaRPr b="0" lang="en-US" sz="24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rounds of transpositions &amp; substitutions</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for unclassified government data</a:t>
            </a:r>
            <a:endParaRPr b="0" lang="en-US" sz="2800" spc="-1" strike="noStrike">
              <a:solidFill>
                <a:srgbClr val="000000"/>
              </a:solidFill>
              <a:latin typeface="Times New Roman"/>
            </a:endParaRPr>
          </a:p>
          <a:p>
            <a:pPr marL="308520" indent="-3085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metric, private k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D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DES</a:t>
            </a:r>
            <a:endParaRPr b="0" lang="en-US" sz="32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key length of 112 bits</a:t>
            </a:r>
            <a:endParaRPr b="0" lang="en-US" sz="28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factor about the same as single DES</a:t>
            </a:r>
            <a:endParaRPr b="0" lang="en-US" sz="2800" spc="-1" strike="noStrike">
              <a:solidFill>
                <a:srgbClr val="000000"/>
              </a:solidFill>
              <a:latin typeface="Times New Roman"/>
            </a:endParaRPr>
          </a:p>
          <a:p>
            <a:pPr marL="329040" indent="-32904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ple DES</a:t>
            </a:r>
            <a:endParaRPr b="0" lang="en-US" sz="32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 with first key</a:t>
            </a:r>
            <a:endParaRPr b="0" lang="en-US" sz="28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 with second key</a:t>
            </a:r>
            <a:endParaRPr b="0" lang="en-US" sz="28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 with first key</a:t>
            </a:r>
            <a:endParaRPr b="0" lang="en-US" sz="28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ecure</a:t>
            </a:r>
            <a:endParaRPr b="0" lang="en-US" sz="28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ke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A - Rivest, Shamir, and Adleman</a:t>
            </a:r>
            <a:endParaRPr b="0" lang="en-US" sz="2800" spc="-1" strike="noStrike">
              <a:solidFill>
                <a:srgbClr val="000000"/>
              </a:solidFill>
              <a:latin typeface="Times New Roman"/>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in 1976</a:t>
            </a:r>
            <a:endParaRPr b="0" lang="en-US" sz="2400" spc="-1" strike="noStrike">
              <a:solidFill>
                <a:srgbClr val="000000"/>
              </a:solidFill>
              <a:latin typeface="Times New Roman"/>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es on factoring of large numbers</a:t>
            </a:r>
            <a:endParaRPr b="0" lang="en-US" sz="24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iptic Curve Cryptosystem (ECC)</a:t>
            </a:r>
            <a:endParaRPr b="0" lang="en-US" sz="2800" spc="-1" strike="noStrike">
              <a:solidFill>
                <a:srgbClr val="000000"/>
              </a:solidFill>
              <a:latin typeface="Times New Roman"/>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strength/bit of public key stream</a:t>
            </a:r>
            <a:endParaRPr b="0" lang="en-US" sz="2400" spc="-1" strike="noStrike">
              <a:solidFill>
                <a:srgbClr val="000000"/>
              </a:solidFill>
              <a:latin typeface="Times New Roman"/>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g savings over other public key systems</a:t>
            </a:r>
            <a:endParaRPr b="0" lang="en-US" sz="24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Comparison</a:t>
            </a:r>
            <a:endParaRPr b="0" lang="en-US" sz="4400" spc="-1" strike="noStrike">
              <a:solidFill>
                <a:srgbClr val="000000"/>
              </a:solidFill>
              <a:latin typeface="Times New Roman"/>
            </a:endParaRPr>
          </a:p>
        </p:txBody>
      </p:sp>
      <p:graphicFrame>
        <p:nvGraphicFramePr>
          <p:cNvPr id="74" name=""/>
          <p:cNvGraphicFramePr/>
          <p:nvPr/>
        </p:nvGraphicFramePr>
        <p:xfrm>
          <a:off x="685800" y="3265560"/>
          <a:ext cx="7772400" cy="1544400"/>
        </p:xfrm>
        <a:graphic>
          <a:graphicData uri="http://schemas.openxmlformats.org/presentationml/2006/ole">
            <p:oleObj progId="Word.Document.12" r:id="rId1" spid="">
              <p:embed/>
              <p:pic>
                <p:nvPicPr>
                  <p:cNvPr id="75" name="" descr=""/>
                  <p:cNvPicPr/>
                  <p:nvPr/>
                </p:nvPicPr>
                <p:blipFill>
                  <a:blip r:embed="rId2"/>
                  <a:stretch/>
                </p:blipFill>
                <p:spPr>
                  <a:xfrm>
                    <a:off x="685800" y="3265560"/>
                    <a:ext cx="7772400" cy="15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Selectio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password selection, users are the weak lin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number generators may not be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clustering - two different keys produce equivalent ciphertext from equivalent plai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Managemen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public key system, A wants to talk to 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s the Key Distribution Center, has A and B’s public k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lls B, and the calling protocol contacts 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encrypts a session key, “k”, with the public keys and sends the encrypted “k” to A and 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nd B can then communic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concepts and te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Private Key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Distribution/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ellaneous Cryp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Management Issu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storage, recovery</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evocation (lost, compromised keys)</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fully automated</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key in clear outside crypto system</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key randomly from entire key space</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encrypting key must be separate from data keys</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equently use keys with long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Escrow</a:t>
            </a:r>
            <a:endParaRPr b="0" lang="en-US" sz="4400" spc="-1" strike="noStrike">
              <a:solidFill>
                <a:srgbClr val="000000"/>
              </a:solidFill>
              <a:latin typeface="Times New Roman"/>
            </a:endParaRPr>
          </a:p>
        </p:txBody>
      </p:sp>
      <p:sp>
        <p:nvSpPr>
          <p:cNvPr id="8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agencies maintain components of private key, which, when combined, can be used to decrypt ciphertex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d reason is to decrypt drug related communication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pper chip is an example</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 algorithm</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opular, unused</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 include key storage, Big Br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gital Signatur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like a written signature, binds a message to an individual (Provides non-repudiation):</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is sender, R is recipient, and M is the Message</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must be able to validate S’s signature on M</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can forge S’s signature</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 denies signing M, a 3rd party must be able to resolve the dispute between S and R</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with public key encryption  - S encrypts with private key, R can decrypt with public (so can 3rd par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method results in M in ciphertext, anyone without S’s public key cannot 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ternative is to compute a digest of the message using a public hash function, then encrypt the digest using private key.  Thus, the only ciphertext is the ha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2, MD4, and MD5 are public hash functions that create message digests.  MD5 is strongest, a Rivest upgrade of MD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 Func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h function produces a message dig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digest also known as fingerprint, impr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essages with the same digest are extremely unlike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er can’t claim a different message was 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 can’t claim a different message was sig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 Standard (DS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ecure hash algorithm</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enses message to 160 bit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size 512 - 1024 bit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by NIST in 1991</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Authentication Cod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erm used to describe digital signa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tack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ute force attac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to use all key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siv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processing speed doubles every 18 month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ed workstation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k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tic</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lgorithm and algebraic manipulation to reduce complexity</a:t>
            </a:r>
            <a:endParaRPr b="0" lang="en-US" sz="28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al</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tistical weaknesses in design (more 1’s than 0s in keystream on average, for example)</a:t>
            </a:r>
            <a:endParaRPr b="0" lang="en-US" sz="28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oft - PPTP, LANMAN passwords</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randomization on Netscape k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and encryption system designed at 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 a unique key, called a “ticket”, to each user on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icket” embedded in user’s messages to identify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tpo Intro</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Encryp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 stored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 process by which </a:t>
            </a:r>
            <a:r>
              <a:rPr b="1" lang="en-US" sz="2800" spc="-1" strike="noStrike">
                <a:solidFill>
                  <a:srgbClr val="000000"/>
                </a:solidFill>
                <a:latin typeface="Times New Roman"/>
              </a:rPr>
              <a:t>plaintext</a:t>
            </a:r>
            <a:r>
              <a:rPr b="0" lang="en-US" sz="2800" spc="-1" strike="noStrike">
                <a:solidFill>
                  <a:srgbClr val="000000"/>
                </a:solidFill>
                <a:latin typeface="Times New Roman"/>
              </a:rPr>
              <a:t> is converted to </a:t>
            </a:r>
            <a:r>
              <a:rPr b="1" lang="en-US" sz="2800" spc="-1" strike="noStrike">
                <a:solidFill>
                  <a:srgbClr val="000000"/>
                </a:solidFill>
                <a:latin typeface="Times New Roman"/>
              </a:rPr>
              <a:t>ciphertext </a:t>
            </a:r>
            <a:r>
              <a:rPr b="0" lang="en-US" sz="2800" spc="-1" strike="noStrike">
                <a:solidFill>
                  <a:srgbClr val="000000"/>
                </a:solidFill>
                <a:latin typeface="Times New Roman"/>
              </a:rPr>
              <a:t>using a </a:t>
            </a:r>
            <a:r>
              <a:rPr b="1" lang="en-US" sz="2800" spc="-1" strike="noStrike">
                <a:solidFill>
                  <a:srgbClr val="000000"/>
                </a:solidFill>
                <a:latin typeface="Times New Roman"/>
              </a:rPr>
              <a:t>k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 - process by which ciphertext is converted to plaintext (with the appropriate k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ext (cleartext)- intelligible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cate Authority</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ed, 3rd party organiz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Certificate Authority) guarantees that the individual granted a certificate is who he/she claims to b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usually has arrangement with financial institution to confirm ident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o data security and electronic commer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Key Infrastructur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 as PKI</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cessary for widespread electronic commerc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bsolute definition or standar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stem of digital certificates, Certificate Authorities, and other registration authorities that verify and authenticate the validity of parties in Internet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ganograph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of hiding communic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eny message exi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e data transmissions (remember the microdo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implementations hide information in graphic files, sound files, or slack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 Term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ography - art/science relating to encrypting, decrypting inform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sis - art/science relating to converting ciphertext to plaintext without the (secret) ke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encryption - the individual application of encryption to data on each link of a network (nodes are a weak link)</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to-end encryption - the encryption of data from source system to end system (https)</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 Term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diation - In communication between parties, Denial by one party of having participated in communication  (commonly heard as non-repudiat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analysis - inference of information from analysis of traffic (presence, absence, frequency, etc.)</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dding - generation of spurious data unit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Factor - effort/time needed to overcome a protective mea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 Time Pad</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dentical pads (keys), one with sender, one with recip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dom pads (keys) are the same length as the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breakable by exhaustive sear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physical security of the p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ds can only be used o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analysis Terms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phertext-only attack - attacker attempts to decrypt ciphertext </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plaintext attack - attacker attempts to decrypt ciphertext given knowledge of some plaintext (think “Login:  “)</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sen-plaintext attack - attacker obtains ciphertext corresponding to </a:t>
            </a:r>
            <a:r>
              <a:rPr b="1" lang="en-US" sz="2800" spc="-1" strike="noStrike">
                <a:solidFill>
                  <a:srgbClr val="000000"/>
                </a:solidFill>
                <a:latin typeface="Times New Roman"/>
              </a:rPr>
              <a:t>selected</a:t>
            </a:r>
            <a:r>
              <a:rPr b="0" lang="en-US" sz="2800" spc="-1" strike="noStrike">
                <a:solidFill>
                  <a:srgbClr val="000000"/>
                </a:solidFill>
                <a:latin typeface="Times New Roman"/>
              </a:rPr>
              <a:t> plaintext</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sen-ciphertext attack - attacker obtains plaintext corresponding to selected ciphertext </a:t>
            </a:r>
            <a:r>
              <a:rPr b="0" lang="en-US" sz="2400" spc="-1" strike="noStrike">
                <a:solidFill>
                  <a:srgbClr val="000000"/>
                </a:solidFill>
                <a:latin typeface="Times New Roman"/>
              </a:rPr>
              <a:t>(in a public key system, when trying to deduce private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 System Properti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decryption transformations must be efficient for all ke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must be easy to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of the system should depend ONLY on the secrecy of the keys and not on the secrecy of the encryption/decryption transform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recy Requirement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iphertext and plaintext are known, it should be computationally infeasible to determine the deciphering algorithm</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hould be computationally infeasible to systematically determine plaintext from intercepted ciphertext (Even if you decrypt ciphertext once, it should require the same amount of work to do it again.)</a:t>
            </a:r>
            <a:endParaRPr b="0" lang="en-US" sz="28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systematically” allows for a lucky gues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omputationally infeasible” means great effort, doesn’t account for advances in computing, mathema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01:22:20Z</dcterms:created>
  <dc:creator>brothke@hotmail.com</dc:creator>
  <dc:description/>
  <dc:language>en-US</dc:language>
  <cp:lastModifiedBy>BRothke</cp:lastModifiedBy>
  <dcterms:modified xsi:type="dcterms:W3CDTF">2003-06-12T14:50:29Z</dcterms:modified>
  <cp:revision>10</cp:revision>
  <dc:subject>CISSP CBK Review - Cryptography.ppt</dc:subject>
  <dc:title>CISSP CBK Review - Cryptography.ppt</dc:title>
</cp:coreProperties>
</file>